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9144000" cy="6858000"/>
</p:presentation>
</file>

<file path=ppt/commentAuthors.xml><?xml version="1.0" encoding="utf-8"?>
<p:cmAuthorLst xmlns:p="http://schemas.openxmlformats.org/presentationml/2006/main">
  <p:cmAuthor id="0" name="Tura Giovanni Battista" initials="TG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3-11-06T17:44:32.011000000" idx="1">
    <p:pos x="6240" y="334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02A4-4AB9-482A-92EB-1F18351A4D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3EE8-4056-40A7-8831-6FF6137D5A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75FB-ADA2-4E3E-BD1A-88C0CF3D43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C938-95D9-4FB5-8C8A-9516831B343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4965-372C-4DDB-8584-40B6A86B599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57FF-29F9-40FF-9A4F-8224AE1002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4EFA-8D38-40E2-9BE9-3D4237E4C7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8538-CD8A-472F-9C50-88E770C7AA7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0052-258F-4E12-B321-EEA4B11008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B732-55E4-45C8-9331-0013426B03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FC79-E6B0-4C11-A9DD-ADBE1CD700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B51D-A935-4B01-BE4C-C719325535A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D9A-74F3-429A-AE5B-69E99185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368-549C-4C91-B245-40396840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35C-BEDD-4E3A-A362-94F36D2D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D0F-6A57-4507-8E7D-C6ECD30A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246-A54E-4BBC-AB2F-393032D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43A-88F9-44F5-8FBD-5681D287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523-661D-458B-88EA-0D5260D1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632-72D6-4F01-9EC1-F600C0EC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E69-EA3F-49A2-BF27-2961B534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BE0-0635-4575-AEC4-18D1DB52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C3D-BEB8-402D-8B43-D5C8A556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DF0-048D-467F-A016-013F28E8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59EE-E248-4991-94FB-56CAF50F7F2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1"/>
          <p:cNvGrpSpPr/>
          <p:nvPr/>
        </p:nvGrpSpPr>
        <p:grpSpPr>
          <a:xfrm>
            <a:off x="0" y="-1467000"/>
            <a:ext cx="9906120" cy="8194680"/>
            <a:chOff x="0" y="-1467000"/>
            <a:chExt cx="9906120" cy="8194680"/>
          </a:xfrm>
        </p:grpSpPr>
        <p:pic>
          <p:nvPicPr>
            <p:cNvPr id="49" name="Picture 15" descr=""/>
            <p:cNvPicPr/>
            <p:nvPr/>
          </p:nvPicPr>
          <p:blipFill>
            <a:blip r:embed="rId1"/>
            <a:stretch/>
          </p:blipFill>
          <p:spPr>
            <a:xfrm>
              <a:off x="0" y="-1467000"/>
              <a:ext cx="9902880" cy="27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8" descr=""/>
            <p:cNvPicPr/>
            <p:nvPr/>
          </p:nvPicPr>
          <p:blipFill>
            <a:blip r:embed="rId2"/>
            <a:srcRect l="0" t="36739" r="0" b="0"/>
            <a:stretch/>
          </p:blipFill>
          <p:spPr>
            <a:xfrm>
              <a:off x="2808360" y="5314680"/>
              <a:ext cx="70977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9" descr=""/>
            <p:cNvPicPr/>
            <p:nvPr/>
          </p:nvPicPr>
          <p:blipFill>
            <a:blip r:embed="rId3"/>
            <a:srcRect l="0" t="0" r="75647" b="64631"/>
            <a:stretch/>
          </p:blipFill>
          <p:spPr>
            <a:xfrm>
              <a:off x="631800" y="5459400"/>
              <a:ext cx="172872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4840" y="1628280"/>
            <a:ext cx="85312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IL RUOLO DELL'IRCCS NELLA RETE DEI SERVIZI </a:t>
            </a:r>
            <a:br>
              <a:rPr sz="1600"/>
            </a:b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PER LA SALUTE MENTALE: </a:t>
            </a:r>
            <a:br>
              <a:rPr sz="1600"/>
            </a:b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PROGRAMMI  INNOVATIVI PER IL CITTAD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737240" y="4221000"/>
            <a:ext cx="44812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Giovanni Battista 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trebuchet ms"/>
              </a:rPr>
              <a:t>Dirigente Medico Struttura Complessa di Psichiat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trebuchet ms"/>
              </a:rPr>
              <a:t>IRCCS Centro S. Giovanni di Dio – FBF – Bres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2336760" y="29052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2268"/>
                </a:solidFill>
                <a:latin typeface="Arial"/>
              </a:rPr>
              <a:t>La traslazionalità dalla ricerca e la clinic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2268"/>
                </a:solidFill>
                <a:latin typeface="Arial"/>
              </a:rPr>
              <a:t>dai servizi clinici ai percorsi innov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1"/>
          <p:cNvSpPr/>
          <p:nvPr/>
        </p:nvSpPr>
        <p:spPr>
          <a:xfrm>
            <a:off x="2763720" y="58680"/>
            <a:ext cx="5457960" cy="70380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ptos"/>
              </a:rPr>
              <a:t>Conferenza per la Salute Men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ptos"/>
              </a:rPr>
              <a:t>10 novembre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6"/>
          <p:cNvGrpSpPr/>
          <p:nvPr/>
        </p:nvGrpSpPr>
        <p:grpSpPr>
          <a:xfrm>
            <a:off x="19080" y="-11160"/>
            <a:ext cx="9902880" cy="6858000"/>
            <a:chOff x="19080" y="-11160"/>
            <a:chExt cx="9902880" cy="6858000"/>
          </a:xfrm>
        </p:grpSpPr>
        <p:pic>
          <p:nvPicPr>
            <p:cNvPr id="130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19080" y="-1116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"/>
            <p:cNvPicPr/>
            <p:nvPr/>
          </p:nvPicPr>
          <p:blipFill>
            <a:blip r:embed="rId2"/>
            <a:stretch/>
          </p:blipFill>
          <p:spPr>
            <a:xfrm>
              <a:off x="38160" y="596088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14"/>
          <p:cNvSpPr/>
          <p:nvPr/>
        </p:nvSpPr>
        <p:spPr>
          <a:xfrm>
            <a:off x="2936880" y="1508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Disturbo borderline di person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magine 3" descr=""/>
          <p:cNvPicPr/>
          <p:nvPr/>
        </p:nvPicPr>
        <p:blipFill>
          <a:blip r:embed="rId3"/>
          <a:stretch/>
        </p:blipFill>
        <p:spPr>
          <a:xfrm>
            <a:off x="3440160" y="620640"/>
            <a:ext cx="4640040" cy="5910480"/>
          </a:xfrm>
          <a:prstGeom prst="rect">
            <a:avLst/>
          </a:prstGeom>
          <a:ln w="0">
            <a:noFill/>
          </a:ln>
        </p:spPr>
      </p:pic>
      <p:sp>
        <p:nvSpPr>
          <p:cNvPr id="134" name="Connettore 1 2"/>
          <p:cNvSpPr/>
          <p:nvPr/>
        </p:nvSpPr>
        <p:spPr>
          <a:xfrm>
            <a:off x="3440160" y="907920"/>
            <a:ext cx="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ttore 1 4"/>
          <p:cNvSpPr/>
          <p:nvPr/>
        </p:nvSpPr>
        <p:spPr>
          <a:xfrm>
            <a:off x="3224160" y="692280"/>
            <a:ext cx="0" cy="54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Connettore 4 6"/>
          <p:cNvCxnSpPr/>
          <p:nvPr/>
        </p:nvCxnSpPr>
        <p:spPr>
          <a:xfrm flipH="1" flipV="1" rot="5400000">
            <a:off x="6033240" y="3356280"/>
            <a:ext cx="2448360" cy="1008720"/>
          </a:xfrm>
          <a:prstGeom prst="bentConnector3">
            <a:avLst>
              <a:gd name="adj1" fmla="val -1088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6"/>
          <p:cNvGrpSpPr/>
          <p:nvPr/>
        </p:nvGrpSpPr>
        <p:grpSpPr>
          <a:xfrm>
            <a:off x="19080" y="-11160"/>
            <a:ext cx="9902880" cy="6858000"/>
            <a:chOff x="19080" y="-11160"/>
            <a:chExt cx="9902880" cy="6858000"/>
          </a:xfrm>
        </p:grpSpPr>
        <p:pic>
          <p:nvPicPr>
            <p:cNvPr id="138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19080" y="-1116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"/>
            <p:cNvPicPr/>
            <p:nvPr/>
          </p:nvPicPr>
          <p:blipFill>
            <a:blip r:embed="rId2"/>
            <a:stretch/>
          </p:blipFill>
          <p:spPr>
            <a:xfrm>
              <a:off x="38160" y="596088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Text Box 14"/>
          <p:cNvSpPr/>
          <p:nvPr/>
        </p:nvSpPr>
        <p:spPr>
          <a:xfrm>
            <a:off x="2936880" y="15084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VALUTAZIONE ED ORIENTAMENTO TERAPEUTICO DEL PAZIENTE PSICHIATRICO  in COMORBIDITÀ CON DECADIMENTO COGNITIVO INI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Diagramma 7" descr=""/>
          <p:cNvPicPr/>
          <p:nvPr/>
        </p:nvPicPr>
        <p:blipFill>
          <a:blip r:embed="rId3"/>
          <a:stretch/>
        </p:blipFill>
        <p:spPr>
          <a:xfrm>
            <a:off x="647640" y="1409760"/>
            <a:ext cx="8724960" cy="4991040"/>
          </a:xfrm>
          <a:prstGeom prst="rect">
            <a:avLst/>
          </a:prstGeom>
          <a:ln w="0">
            <a:noFill/>
          </a:ln>
        </p:spPr>
      </p:pic>
      <p:sp>
        <p:nvSpPr>
          <p:cNvPr id="142" name="CasellaDiTesto 1"/>
          <p:cNvSpPr/>
          <p:nvPr/>
        </p:nvSpPr>
        <p:spPr>
          <a:xfrm>
            <a:off x="7329600" y="2476440"/>
            <a:ext cx="2447640" cy="21481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** VALORE AGGIU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PER IL PZ e familia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333399"/>
                </a:solidFill>
                <a:latin typeface="Arial"/>
              </a:rPr>
              <a:t>Multidisciplinarità nello stesso contesto di tempo e spazio delle co-valutazio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333399"/>
                </a:solidFill>
                <a:latin typeface="Arial"/>
              </a:rPr>
              <a:t>Restituzione congiunta e condivisa delle due discip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333399"/>
                </a:solidFill>
                <a:latin typeface="Arial"/>
              </a:rPr>
              <a:t>Azione terapeutico/riabilitativa sinergica e concor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6"/>
          <p:cNvGrpSpPr/>
          <p:nvPr/>
        </p:nvGrpSpPr>
        <p:grpSpPr>
          <a:xfrm>
            <a:off x="19080" y="-1144440"/>
            <a:ext cx="9902880" cy="7975440"/>
            <a:chOff x="19080" y="-1144440"/>
            <a:chExt cx="9902880" cy="7975440"/>
          </a:xfrm>
        </p:grpSpPr>
        <p:pic>
          <p:nvPicPr>
            <p:cNvPr id="57" name="Picture 15" descr=""/>
            <p:cNvPicPr/>
            <p:nvPr/>
          </p:nvPicPr>
          <p:blipFill>
            <a:blip r:embed="rId1"/>
            <a:stretch/>
          </p:blipFill>
          <p:spPr>
            <a:xfrm>
              <a:off x="19080" y="-1144440"/>
              <a:ext cx="9902880" cy="27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6" descr=""/>
            <p:cNvPicPr/>
            <p:nvPr/>
          </p:nvPicPr>
          <p:blipFill>
            <a:blip r:embed="rId2"/>
            <a:stretch/>
          </p:blipFill>
          <p:spPr>
            <a:xfrm>
              <a:off x="128520" y="5945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 Box 14"/>
          <p:cNvSpPr/>
          <p:nvPr/>
        </p:nvSpPr>
        <p:spPr>
          <a:xfrm>
            <a:off x="2860560" y="476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a traslazionalità dalla ricerca e la clinic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dai servizi clinici ai percorsi innov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asellaDiTesto 2" descr=""/>
          <p:cNvPicPr/>
          <p:nvPr/>
        </p:nvPicPr>
        <p:blipFill>
          <a:blip r:embed="rId3"/>
          <a:stretch/>
        </p:blipFill>
        <p:spPr>
          <a:xfrm>
            <a:off x="800280" y="1917720"/>
            <a:ext cx="7124400" cy="273060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3"/>
          <p:cNvSpPr/>
          <p:nvPr/>
        </p:nvSpPr>
        <p:spPr>
          <a:xfrm>
            <a:off x="5024520" y="4481640"/>
            <a:ext cx="26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www.salute.gov.it/port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sellaDiTesto 1"/>
          <p:cNvSpPr/>
          <p:nvPr/>
        </p:nvSpPr>
        <p:spPr>
          <a:xfrm>
            <a:off x="1371600" y="5229360"/>
            <a:ext cx="2521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Open Sans"/>
              </a:rPr>
              <a:t>Fruizione dir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3"/>
          <p:cNvSpPr/>
          <p:nvPr/>
        </p:nvSpPr>
        <p:spPr>
          <a:xfrm>
            <a:off x="6386400" y="5254560"/>
            <a:ext cx="28814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«Cultura» della ri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4"/>
          <p:cNvSpPr/>
          <p:nvPr/>
        </p:nvSpPr>
        <p:spPr>
          <a:xfrm>
            <a:off x="4334040" y="5629320"/>
            <a:ext cx="16160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tta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6"/>
          <p:cNvGrpSpPr/>
          <p:nvPr/>
        </p:nvGrpSpPr>
        <p:grpSpPr>
          <a:xfrm>
            <a:off x="-19080" y="0"/>
            <a:ext cx="9902880" cy="6858000"/>
            <a:chOff x="-19080" y="0"/>
            <a:chExt cx="9902880" cy="6858000"/>
          </a:xfrm>
        </p:grpSpPr>
        <p:pic>
          <p:nvPicPr>
            <p:cNvPr id="66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-19080" y="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Text Box 14"/>
          <p:cNvSpPr/>
          <p:nvPr/>
        </p:nvSpPr>
        <p:spPr>
          <a:xfrm>
            <a:off x="2865600" y="39204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Cittadini e ric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84520" y="963720"/>
          <a:ext cx="7200720" cy="4930560"/>
        </p:xfrm>
        <a:graphic>
          <a:graphicData uri="http://schemas.openxmlformats.org/drawingml/2006/table">
            <a:tbl>
              <a:tblPr/>
              <a:tblGrid>
                <a:gridCol w="7200720"/>
              </a:tblGrid>
              <a:tr h="43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Come «fare cultura» verso la ricerca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0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rvizi clinici e risposte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bisogni di salute capaci di garantire alcune attese (efficacia, tempistica, facilità di fruizione, ambienti di cura di qualità) sono i migliori strumenti per aumentare la «cultura» del cittadino rispetto al proprio ruolo nel campo della ricerca superando le ancora diffuse resistenze (diffidenza, complessità, «fatica», tempo aggiuntivo dedicat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alità dell’assistenza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della cura come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antaggio percepit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quindi motore della reciprocità cittadino-ricer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involgimento attiv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e diverse fasi (progettazione, applicazione, restituzione) di pz e famili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te di serviz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«continuità» con altri luoghi della salute (in primis psichiatria territoriale, MMG, altre specialità) – condivisione di progettualità condivise e trasferib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6"/>
          <p:cNvGrpSpPr/>
          <p:nvPr/>
        </p:nvGrpSpPr>
        <p:grpSpPr>
          <a:xfrm>
            <a:off x="3240" y="-15840"/>
            <a:ext cx="9902880" cy="6851520"/>
            <a:chOff x="3240" y="-15840"/>
            <a:chExt cx="9902880" cy="6851520"/>
          </a:xfrm>
        </p:grpSpPr>
        <p:pic>
          <p:nvPicPr>
            <p:cNvPr id="71" name="Picture 15" descr=""/>
            <p:cNvPicPr/>
            <p:nvPr/>
          </p:nvPicPr>
          <p:blipFill>
            <a:blip r:embed="rId1"/>
            <a:srcRect l="0" t="44330" r="0" b="0"/>
            <a:stretch/>
          </p:blipFill>
          <p:spPr>
            <a:xfrm>
              <a:off x="3240" y="-15840"/>
              <a:ext cx="990288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3240" y="594972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3" name=""/>
          <p:cNvGraphicFramePr/>
          <p:nvPr/>
        </p:nvGraphicFramePr>
        <p:xfrm>
          <a:off x="0" y="711360"/>
          <a:ext cx="9902880" cy="6499080"/>
        </p:xfrm>
        <a:graphic>
          <a:graphicData uri="http://schemas.openxmlformats.org/drawingml/2006/table">
            <a:tbl>
              <a:tblPr/>
              <a:tblGrid>
                <a:gridCol w="3078000"/>
                <a:gridCol w="560520"/>
                <a:gridCol w="1436760"/>
                <a:gridCol w="2395440"/>
                <a:gridCol w="647640"/>
                <a:gridCol w="1784520"/>
              </a:tblGrid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RICER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dcc6"/>
                    </a:solidFill>
                  </a:tcPr>
                </a:tc>
                <a:tc rowSpan="1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dcc6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CLI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dc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3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dcc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TERRI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dcc6"/>
                    </a:solidFill>
                  </a:tcPr>
                </a:tc>
              </a:tr>
              <a:tr h="566640">
                <a:tc rowSpan="6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Unità specifich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hiatri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hiatria Epidemiologic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hiatria Biologic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tic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atori Molecolari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psicologi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fisiologi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immagine 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informatic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etic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ab Alzhei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- 5x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- Progetti innovativi 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(TR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MBULATORI</a:t>
                      </a: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(CP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Progettua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Specific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M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Servizi Soc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III set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Cooperazione Soc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Scu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. DI RIABILITAZIONE OSPEDALI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16-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2c4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O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2c4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AMBULATORI SPECIF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alut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ultidisciplin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Comorbil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Umore/Cognitiv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2c4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00">
                <a:tc rowSpan="6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Programmi terapeutici 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psicoeducazionali  pe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c1c1d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epressione resist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c1c1d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epressione con dec cogn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c1c1d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isturbo bipo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- dist. di personal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- comorbidità somatich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- stile di v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c1c1d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supporto famili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c1c1d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conse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Profilazione psicodiagno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2c4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pol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igra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arginalità soc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slazion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Co-gestione c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Unità di Ricer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14"/>
          <p:cNvSpPr/>
          <p:nvPr/>
        </p:nvSpPr>
        <p:spPr>
          <a:xfrm>
            <a:off x="2792520" y="8892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Ricerca e cli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’architettura della traslazion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uppo 7180"/>
          <p:cNvGrpSpPr/>
          <p:nvPr/>
        </p:nvGrpSpPr>
        <p:grpSpPr>
          <a:xfrm>
            <a:off x="7544520" y="2349000"/>
            <a:ext cx="462960" cy="3696480"/>
            <a:chOff x="7544520" y="2349000"/>
            <a:chExt cx="462960" cy="3696480"/>
          </a:xfrm>
        </p:grpSpPr>
        <p:grpSp>
          <p:nvGrpSpPr>
            <p:cNvPr id="76" name="Gruppo 14"/>
            <p:cNvGrpSpPr/>
            <p:nvPr/>
          </p:nvGrpSpPr>
          <p:grpSpPr>
            <a:xfrm>
              <a:off x="7568640" y="5828760"/>
              <a:ext cx="433800" cy="216720"/>
              <a:chOff x="7568640" y="5828760"/>
              <a:chExt cx="433800" cy="216720"/>
            </a:xfrm>
          </p:grpSpPr>
          <p:cxnSp>
            <p:nvCxnSpPr>
              <p:cNvPr id="77" name="Connettore 2 15"/>
              <p:cNvCxnSpPr/>
              <p:nvPr/>
            </p:nvCxnSpPr>
            <p:spPr>
              <a:xfrm>
                <a:off x="7569000" y="582876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78" name="Connettore 2 16"/>
              <p:cNvCxnSpPr/>
              <p:nvPr/>
            </p:nvCxnSpPr>
            <p:spPr>
              <a:xfrm flipH="1">
                <a:off x="7568640" y="604476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79" name="Gruppo 22"/>
            <p:cNvGrpSpPr/>
            <p:nvPr/>
          </p:nvGrpSpPr>
          <p:grpSpPr>
            <a:xfrm>
              <a:off x="7568640" y="4668840"/>
              <a:ext cx="433800" cy="216720"/>
              <a:chOff x="7568640" y="4668840"/>
              <a:chExt cx="433800" cy="216720"/>
            </a:xfrm>
          </p:grpSpPr>
          <p:cxnSp>
            <p:nvCxnSpPr>
              <p:cNvPr id="80" name="Connettore 2 24"/>
              <p:cNvCxnSpPr/>
              <p:nvPr/>
            </p:nvCxnSpPr>
            <p:spPr>
              <a:xfrm>
                <a:off x="7569000" y="466884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81" name="Connettore 2 25"/>
              <p:cNvCxnSpPr/>
              <p:nvPr/>
            </p:nvCxnSpPr>
            <p:spPr>
              <a:xfrm flipH="1">
                <a:off x="7568640" y="488484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82" name="Gruppo 7174"/>
            <p:cNvGrpSpPr/>
            <p:nvPr/>
          </p:nvGrpSpPr>
          <p:grpSpPr>
            <a:xfrm>
              <a:off x="7573680" y="3508920"/>
              <a:ext cx="433800" cy="216720"/>
              <a:chOff x="7573680" y="3508920"/>
              <a:chExt cx="433800" cy="216720"/>
            </a:xfrm>
          </p:grpSpPr>
          <p:cxnSp>
            <p:nvCxnSpPr>
              <p:cNvPr id="83" name="Connettore 2 7175"/>
              <p:cNvCxnSpPr/>
              <p:nvPr/>
            </p:nvCxnSpPr>
            <p:spPr>
              <a:xfrm>
                <a:off x="7574040" y="350892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84" name="Connettore 2 7176"/>
              <p:cNvCxnSpPr/>
              <p:nvPr/>
            </p:nvCxnSpPr>
            <p:spPr>
              <a:xfrm flipH="1">
                <a:off x="7573680" y="372492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85" name="Gruppo 7177"/>
            <p:cNvGrpSpPr/>
            <p:nvPr/>
          </p:nvGrpSpPr>
          <p:grpSpPr>
            <a:xfrm>
              <a:off x="7544520" y="2349000"/>
              <a:ext cx="433800" cy="216720"/>
              <a:chOff x="7544520" y="2349000"/>
              <a:chExt cx="433800" cy="216720"/>
            </a:xfrm>
          </p:grpSpPr>
          <p:cxnSp>
            <p:nvCxnSpPr>
              <p:cNvPr id="86" name="Connettore 2 7178"/>
              <p:cNvCxnSpPr/>
              <p:nvPr/>
            </p:nvCxnSpPr>
            <p:spPr>
              <a:xfrm>
                <a:off x="7544880" y="234900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87" name="Connettore 2 7179"/>
              <p:cNvCxnSpPr/>
              <p:nvPr/>
            </p:nvCxnSpPr>
            <p:spPr>
              <a:xfrm flipH="1">
                <a:off x="7544520" y="256500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88" name="Gruppo 7181"/>
          <p:cNvGrpSpPr/>
          <p:nvPr/>
        </p:nvGrpSpPr>
        <p:grpSpPr>
          <a:xfrm>
            <a:off x="3155400" y="2249280"/>
            <a:ext cx="460800" cy="3696120"/>
            <a:chOff x="3155400" y="2249280"/>
            <a:chExt cx="460800" cy="3696120"/>
          </a:xfrm>
        </p:grpSpPr>
        <p:grpSp>
          <p:nvGrpSpPr>
            <p:cNvPr id="89" name="Gruppo 7182"/>
            <p:cNvGrpSpPr/>
            <p:nvPr/>
          </p:nvGrpSpPr>
          <p:grpSpPr>
            <a:xfrm>
              <a:off x="3179520" y="5728680"/>
              <a:ext cx="431640" cy="216720"/>
              <a:chOff x="3179520" y="5728680"/>
              <a:chExt cx="431640" cy="216720"/>
            </a:xfrm>
          </p:grpSpPr>
          <p:cxnSp>
            <p:nvCxnSpPr>
              <p:cNvPr id="90" name="Connettore 2 7192"/>
              <p:cNvCxnSpPr/>
              <p:nvPr/>
            </p:nvCxnSpPr>
            <p:spPr>
              <a:xfrm>
                <a:off x="3179880" y="572868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91" name="Connettore 2 7193"/>
              <p:cNvCxnSpPr/>
              <p:nvPr/>
            </p:nvCxnSpPr>
            <p:spPr>
              <a:xfrm flipH="1">
                <a:off x="3179520" y="594468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92" name="Gruppo 7183"/>
            <p:cNvGrpSpPr/>
            <p:nvPr/>
          </p:nvGrpSpPr>
          <p:grpSpPr>
            <a:xfrm>
              <a:off x="3179520" y="4568760"/>
              <a:ext cx="431640" cy="216720"/>
              <a:chOff x="3179520" y="4568760"/>
              <a:chExt cx="431640" cy="216720"/>
            </a:xfrm>
          </p:grpSpPr>
          <p:cxnSp>
            <p:nvCxnSpPr>
              <p:cNvPr id="93" name="Connettore 2 7190"/>
              <p:cNvCxnSpPr/>
              <p:nvPr/>
            </p:nvCxnSpPr>
            <p:spPr>
              <a:xfrm>
                <a:off x="3179880" y="456876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94" name="Connettore 2 7191"/>
              <p:cNvCxnSpPr/>
              <p:nvPr/>
            </p:nvCxnSpPr>
            <p:spPr>
              <a:xfrm flipH="1">
                <a:off x="3179520" y="478476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95" name="Gruppo 7184"/>
            <p:cNvGrpSpPr/>
            <p:nvPr/>
          </p:nvGrpSpPr>
          <p:grpSpPr>
            <a:xfrm>
              <a:off x="3184560" y="3408840"/>
              <a:ext cx="431640" cy="216720"/>
              <a:chOff x="3184560" y="3408840"/>
              <a:chExt cx="431640" cy="216720"/>
            </a:xfrm>
          </p:grpSpPr>
          <p:cxnSp>
            <p:nvCxnSpPr>
              <p:cNvPr id="96" name="Connettore 2 7188"/>
              <p:cNvCxnSpPr/>
              <p:nvPr/>
            </p:nvCxnSpPr>
            <p:spPr>
              <a:xfrm>
                <a:off x="3184920" y="340884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97" name="Connettore 2 7189"/>
              <p:cNvCxnSpPr/>
              <p:nvPr/>
            </p:nvCxnSpPr>
            <p:spPr>
              <a:xfrm flipH="1">
                <a:off x="3184560" y="362484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98" name="Gruppo 7185"/>
            <p:cNvGrpSpPr/>
            <p:nvPr/>
          </p:nvGrpSpPr>
          <p:grpSpPr>
            <a:xfrm>
              <a:off x="3155400" y="2249280"/>
              <a:ext cx="431640" cy="216720"/>
              <a:chOff x="3155400" y="2249280"/>
              <a:chExt cx="431640" cy="216720"/>
            </a:xfrm>
          </p:grpSpPr>
          <p:cxnSp>
            <p:nvCxnSpPr>
              <p:cNvPr id="99" name="Connettore 2 7186"/>
              <p:cNvCxnSpPr/>
              <p:nvPr/>
            </p:nvCxnSpPr>
            <p:spPr>
              <a:xfrm>
                <a:off x="3155760" y="224928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100" name="Connettore 2 7187"/>
              <p:cNvCxnSpPr/>
              <p:nvPr/>
            </p:nvCxnSpPr>
            <p:spPr>
              <a:xfrm flipH="1">
                <a:off x="3155400" y="246528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6"/>
          <p:cNvGrpSpPr/>
          <p:nvPr/>
        </p:nvGrpSpPr>
        <p:grpSpPr>
          <a:xfrm>
            <a:off x="-19080" y="0"/>
            <a:ext cx="9902880" cy="6858000"/>
            <a:chOff x="-19080" y="0"/>
            <a:chExt cx="9902880" cy="6858000"/>
          </a:xfrm>
        </p:grpSpPr>
        <p:pic>
          <p:nvPicPr>
            <p:cNvPr id="102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-19080" y="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14"/>
          <p:cNvSpPr/>
          <p:nvPr/>
        </p:nvSpPr>
        <p:spPr>
          <a:xfrm>
            <a:off x="2865600" y="39204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a traslazionalità dalla ricerca e la cli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’ambiente come «cura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3080" y="1824120"/>
          <a:ext cx="7165800" cy="4454280"/>
        </p:xfrm>
        <a:graphic>
          <a:graphicData uri="http://schemas.openxmlformats.org/drawingml/2006/table">
            <a:tbl>
              <a:tblPr/>
              <a:tblGrid>
                <a:gridCol w="71658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Unità di Riabilitazione Ospedaliera «Bonardi»  (1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8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TTERISTICH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tà della persona e del suo funzionamento personale e sociale vs criteri patologici categor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volgimento diretto nelle azioni mirate al percorso di c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volgimento diretto del pz nella gestione dell’ambiente di c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guità-continuità fra momento della cura e momento della riabilitazione (utilizzo delle risorse attive e del personale repertorio funzion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uzione del gap fra ambiente di cura e ambiente di v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roposta  in ambiente terapeutico delle dinamiche tipiche dell’ordinario ambiente di vita (collaborazioni interpz, organizzazione della quotidianità, uso di abilità di interazione per prassi concre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ccio multidiscipli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li attivi anche in tema di salute fisica e stile di vi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zione dei protocolli traslazionali in ambiente in parte sovrapponibile a quello naturale di vi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6"/>
          <p:cNvGrpSpPr/>
          <p:nvPr/>
        </p:nvGrpSpPr>
        <p:grpSpPr>
          <a:xfrm>
            <a:off x="-19080" y="0"/>
            <a:ext cx="9902880" cy="6858000"/>
            <a:chOff x="-19080" y="0"/>
            <a:chExt cx="9902880" cy="6858000"/>
          </a:xfrm>
        </p:grpSpPr>
        <p:pic>
          <p:nvPicPr>
            <p:cNvPr id="107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-19080" y="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 Box 14"/>
          <p:cNvSpPr/>
          <p:nvPr/>
        </p:nvSpPr>
        <p:spPr>
          <a:xfrm>
            <a:off x="2865600" y="39204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’architettura della Unità di Riabilita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Ambiente - équ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mmagine 5" descr=""/>
          <p:cNvPicPr/>
          <p:nvPr/>
        </p:nvPicPr>
        <p:blipFill>
          <a:blip r:embed="rId3"/>
          <a:stretch/>
        </p:blipFill>
        <p:spPr>
          <a:xfrm>
            <a:off x="4813200" y="3141720"/>
            <a:ext cx="4954680" cy="3446280"/>
          </a:xfrm>
          <a:prstGeom prst="rect">
            <a:avLst/>
          </a:prstGeom>
          <a:ln w="0">
            <a:noFill/>
          </a:ln>
        </p:spPr>
      </p:pic>
      <p:pic>
        <p:nvPicPr>
          <p:cNvPr id="111" name="Immagine 3" descr=""/>
          <p:cNvPicPr/>
          <p:nvPr/>
        </p:nvPicPr>
        <p:blipFill>
          <a:blip r:embed="rId4"/>
          <a:stretch/>
        </p:blipFill>
        <p:spPr>
          <a:xfrm>
            <a:off x="560520" y="2492280"/>
            <a:ext cx="4049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6"/>
          <p:cNvGrpSpPr/>
          <p:nvPr/>
        </p:nvGrpSpPr>
        <p:grpSpPr>
          <a:xfrm>
            <a:off x="-19080" y="0"/>
            <a:ext cx="9902880" cy="6858000"/>
            <a:chOff x="-19080" y="0"/>
            <a:chExt cx="9902880" cy="6858000"/>
          </a:xfrm>
        </p:grpSpPr>
        <p:pic>
          <p:nvPicPr>
            <p:cNvPr id="113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-19080" y="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 Box 14"/>
          <p:cNvSpPr/>
          <p:nvPr/>
        </p:nvSpPr>
        <p:spPr>
          <a:xfrm>
            <a:off x="2865600" y="39204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a traslazionalità dalla ricerca e la cli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’ambiente come «cura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39800" y="1585800"/>
          <a:ext cx="7561440" cy="4646880"/>
        </p:xfrm>
        <a:graphic>
          <a:graphicData uri="http://schemas.openxmlformats.org/drawingml/2006/table">
            <a:tbl>
              <a:tblPr/>
              <a:tblGrid>
                <a:gridCol w="3643560"/>
                <a:gridCol w="3917880"/>
              </a:tblGrid>
              <a:tr h="43668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Residence Bonardi – caratteristiche popolazione 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b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Numerosità 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262 pazi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Genere (F / 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137 / 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6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Età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49 aa ± 17 aa   *** (</a:t>
                      </a:r>
                      <a:r>
                        <a:rPr b="0" i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% under 25 aa</a:t>
                      </a: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iagnosi I (tot. 26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51% dist. dell’u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20% dist. personali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29% altro (psicos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15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iagnosi II (tot. 19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25% dist. personali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25% dist. uso sostan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8%   dist. u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Altro (patologie d’organo maggior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Persone in carico ai D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59% (</a:t>
                      </a:r>
                      <a:r>
                        <a:rPr b="0" i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 cui 60 % post SDPC</a:t>
                      </a: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6"/>
          <p:cNvGrpSpPr/>
          <p:nvPr/>
        </p:nvGrpSpPr>
        <p:grpSpPr>
          <a:xfrm>
            <a:off x="-19080" y="0"/>
            <a:ext cx="9902880" cy="6858000"/>
            <a:chOff x="-19080" y="0"/>
            <a:chExt cx="9902880" cy="6858000"/>
          </a:xfrm>
        </p:grpSpPr>
        <p:pic>
          <p:nvPicPr>
            <p:cNvPr id="118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-19080" y="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9440" y="563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30569"/>
                </a:solidFill>
                <a:latin typeface="Open Sans"/>
              </a:rPr>
              <a:t>Macroattività ambulatoriale </a:t>
            </a:r>
            <a:br>
              <a:rPr sz="2400"/>
            </a:br>
            <a:r>
              <a:rPr b="1" lang="it-IT" sz="2400" spc="-1" strike="noStrike">
                <a:solidFill>
                  <a:srgbClr val="030569"/>
                </a:solidFill>
                <a:latin typeface="Open Sans"/>
              </a:rPr>
              <a:t>ad alta complessità assistenziale (MAC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1800" y="1530000"/>
            <a:ext cx="84200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TTING FUNZIONALE ALLA TRASLAZIONALITA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esso settima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istica am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n media semestralità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quipe multidiscipli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MEDICO SPECIALISTA (PLURISPECIALITÀ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FERMI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ERP – EDUCA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SICO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FKY -  DIET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ano di interventi artico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ALUTAZIONE CLINICA, VISITA E RACCOLTA ANAMNESI PZ E FAMILI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ALUTAZIONE DEI BISOGNI RIFERITI ALLA SALUTE PSICO-FISICA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ALUTAZIONE DEL PROFILO FUN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OQUI CLI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MONITORAGGIO SALUTE PSICO-FIS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RVENTI RIABILITATIVI INDIVIDUALI E/O DI GRUPPO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RVENTI PSICOEDUCAZION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OQUI CON I FAMILI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8"/>
          <p:cNvSpPr/>
          <p:nvPr/>
        </p:nvSpPr>
        <p:spPr>
          <a:xfrm>
            <a:off x="5529240" y="5329080"/>
            <a:ext cx="2519280" cy="825480"/>
          </a:xfrm>
          <a:prstGeom prst="rect">
            <a:avLst/>
          </a:prstGeom>
          <a:solidFill>
            <a:srgbClr val="daedef"/>
          </a:solidFill>
          <a:ln w="12600">
            <a:solidFill>
              <a:srgbClr val="5b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rammi trasla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sellaDiTesto 9"/>
          <p:cNvSpPr/>
          <p:nvPr/>
        </p:nvSpPr>
        <p:spPr>
          <a:xfrm>
            <a:off x="5168880" y="3300480"/>
            <a:ext cx="2232000" cy="825480"/>
          </a:xfrm>
          <a:prstGeom prst="rect">
            <a:avLst/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e profession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6"/>
          <p:cNvGrpSpPr/>
          <p:nvPr/>
        </p:nvGrpSpPr>
        <p:grpSpPr>
          <a:xfrm>
            <a:off x="0" y="0"/>
            <a:ext cx="9904320" cy="6858000"/>
            <a:chOff x="0" y="0"/>
            <a:chExt cx="9904320" cy="6858000"/>
          </a:xfrm>
        </p:grpSpPr>
        <p:pic>
          <p:nvPicPr>
            <p:cNvPr id="125" name="Picture 15" descr=""/>
            <p:cNvPicPr/>
            <p:nvPr/>
          </p:nvPicPr>
          <p:blipFill>
            <a:blip r:embed="rId1"/>
            <a:srcRect l="0" t="44330" r="0" b="0"/>
            <a:stretch/>
          </p:blipFill>
          <p:spPr>
            <a:xfrm>
              <a:off x="1440" y="0"/>
              <a:ext cx="990288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83920" y="58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Open Sans"/>
                <a:ea typeface="Open Sans"/>
              </a:rPr>
              <a:t>Popolazioni spe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39440" y="1752480"/>
            <a:ext cx="8420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pt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ptos"/>
              </a:rPr>
              <a:t>Migr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pt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ptos"/>
              </a:rPr>
              <a:t>Collaborazione con agenzie territoriali d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pto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ptos"/>
              </a:rPr>
              <a:t>K-P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pto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ptos"/>
              </a:rPr>
              <a:t>Associazione Ambasciata della Democrazia Locale a Zavidovici (A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pt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pto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ptos"/>
              </a:rPr>
              <a:t>Progetti di rete con ASST – D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pto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ptos"/>
              </a:rPr>
              <a:t>F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pto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ptos"/>
              </a:rPr>
              <a:t>Progetto SAI DM </a:t>
            </a:r>
            <a:r>
              <a:rPr b="0" lang="it-IT" sz="1800" spc="-1" strike="noStrike">
                <a:solidFill>
                  <a:srgbClr val="000000"/>
                </a:solidFill>
                <a:latin typeface="Aptos"/>
                <a:ea typeface="Calibri"/>
              </a:rPr>
              <a:t>Coop K-PAX – Coop La Rete – ASST Sped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ptos"/>
                <a:ea typeface="Calibri"/>
              </a:rPr>
              <a:t>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ptos"/>
                <a:ea typeface="Calibri"/>
              </a:rPr>
              <a:t>Civili – Comune di Bres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pt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ptos"/>
              </a:rPr>
              <a:t>Marginalità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2:51:51Z</dcterms:created>
  <dc:creator>lucia inn</dc:creator>
  <dc:description/>
  <dc:language>en-US</dc:language>
  <cp:lastModifiedBy>Tura Giovanni Battista</cp:lastModifiedBy>
  <dcterms:modified xsi:type="dcterms:W3CDTF">2023-11-06T16:45:33Z</dcterms:modified>
  <cp:revision>148</cp:revision>
  <dc:subject/>
  <dc:title>TITOLO TITOLO TITOLO TITOLO TITOLO TITOLO</dc:title>
</cp:coreProperties>
</file>